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DEE-AEBF-4452-A097-7CD517D8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1A2-6D9A-4CF4-A908-9197360F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AF61-C3FF-404A-A82E-893F097E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8D2-7C8B-4D9F-B120-1BAFC358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2D2F-F754-4451-B144-FBFF9A10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74D3-32B9-43D0-B70D-619D0B51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2255-1EDB-4B66-88DF-0A91BD2D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D4DD-BC78-4A5E-B4B4-34DC8B81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9811-BFAC-423C-85F8-8620DCCE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FE27-B4A5-4CF2-8A29-89CB35F1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F92F-E877-4685-8A8D-5F4661A2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AB8-0784-4C93-B29C-FDDC809D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48E9-3566-4273-B5CD-D4D3424C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B113-968F-4C19-8EA5-499CB9AA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92F5-03BD-4F26-886D-11DC099E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2DDD-71D7-48D9-874A-C46A8C3C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7086-4CEA-4580-88B3-29686F0F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D19E0-9529-4E9A-BEA4-BE201ED7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42E52-5AB7-4D4E-8452-AA934E91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7CCC-26F4-4E7B-B2F2-B024DF00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8C3D5-6471-43BD-B060-61AF6991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9F257-2275-4344-A991-89412E26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BA6-37B1-4C9E-994C-A0C93156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E7908-85CB-437D-907C-296D979E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8DA39-A90B-477D-87F8-820DC318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2E410-3995-4E7F-B538-0566CE2C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23474-F140-4370-8FC1-FD3A8DB3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DA8CF-D375-4331-A47F-674C00BC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6304F-E4F2-4BA4-A941-EABEB763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2C072-58DE-4E43-90D1-1AA659B1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4A6F8-97C4-43D4-8FD9-BE447607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162EA-616B-4DEC-8C22-6465B0D3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401B-F683-43E6-B377-B5405E89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ACC-51D8-404D-9F82-1EEB5E85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E7F6E-FF63-4178-B493-E9E37101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AEFC2-E6E2-47AB-ACE1-C2BE0406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C87FC-843C-4063-806A-210098EE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EC9C4-E895-4A26-960E-F81020A0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24724-A453-474A-804E-934C40D2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BB6D2-746F-4DA8-9609-71968532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DF699-77A4-40CA-B5E8-8E55439E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BBB52-28ED-4663-AB20-4DC083E8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49BDE-75B7-448A-A9F3-15AB093D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A00E2-702B-4883-9216-2B823CFE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94B-D8E3-48BA-B2FA-58D9333C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FB489-F5F8-4502-A65D-E8BF942F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315B1-D02F-4335-971E-7BD519E8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5BF1C-D45A-49CD-8999-29F54908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8D57E-E5C0-45F0-A007-C35332F2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E85FC-9F0F-40F4-BB29-D8918A74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E669F-2750-470D-AC56-D94D01E0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2CA9E-CA8B-4E2B-86E8-FD2D7986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74C00-356A-4EBC-ABDA-596098CA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4B262-A92E-4B1A-9738-4520F62C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7FAE0-DB1F-41A2-96C5-FA97CE623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225-689D-4A2F-BA55-5588569B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E40A0-E9EF-4BF1-B1F3-2BF132C4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C8F-049E-4564-8B5A-68D02902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24F6-D4BF-4833-8955-F28390A9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818-C05A-46F7-81C9-9602FAD7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DCF5-DC58-4214-A430-8137AA07C43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89E8-D37F-488D-A15A-94AE05EB30C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1483-9895-4E61-BD52-8055CA1D7C9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ADE3-1796-4FF6-85B4-AA9B143F3CE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175D-52EA-4C9C-BDA9-D45F919494F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Chapter 20 section 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Observing the Solar Syste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en the ancient Greeks watched the stars move across the sky, they notice that the patterns in the stars didn’t chang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Constellation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the patterns of stars in the sky, which keep the same shapes from night to nigh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Greeks observed these points of light which wandered slowly among the star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lled these object planets, meaning “wanderers”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60912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Geocentric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Earth-centered model in which the Greeks believed the Earth is at the center of the revolving planets and sta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tolemy further developed the geocentric model and believed the planets move on small circles that move on bigger circl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ven though incorrect, it explained the motions observed in sky fairly accuratel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Geocentric Syste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3" name="Picture 21" descr="SolarSys_J73_Geocentric_sx5669a3"/>
          <p:cNvPicPr/>
          <p:nvPr/>
        </p:nvPicPr>
        <p:blipFill>
          <a:blip r:embed="rId1"/>
          <a:stretch/>
        </p:blipFill>
        <p:spPr>
          <a:xfrm>
            <a:off x="1828800" y="1447920"/>
            <a:ext cx="51768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60912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Perpetua"/>
              </a:rPr>
              <a:t>Heliocentric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- The Sun-centered model where the Earth and other planets revolve around the su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 1943, Nicolaus Copernicus was able to work out the arrangement of the known planets and how they move around the su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alileo used the newly invented telescope to make discoveries that supported the heliocentric model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ample: Motions of the Moons proved that not everything in the sky revolves around Eart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rahe and assistants carefully observed and recorded the positions of the planet for 20 yea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eliocentric System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6" name="Picture 6" descr="SolarSys_J74_Heliocentric_sx5670a3"/>
          <p:cNvPicPr/>
          <p:nvPr/>
        </p:nvPicPr>
        <p:blipFill>
          <a:blip r:embed="rId1"/>
          <a:stretch/>
        </p:blipFill>
        <p:spPr>
          <a:xfrm>
            <a:off x="2465280" y="1447920"/>
            <a:ext cx="4670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60912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llipse- An oval-shape orbit which may be elongated or nearly circula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Kepler found that the orbit of each planet is an ellips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oday we know that the solar system consists of the sun, eight planets and their moons, and several kinds of smaller objects that revolve around the su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13:12:03Z</dcterms:created>
  <dc:creator>Falcon School District 49</dc:creator>
  <dc:description/>
  <dc:language>en-US</dc:language>
  <cp:lastModifiedBy>Falcon School District 49</cp:lastModifiedBy>
  <dcterms:modified xsi:type="dcterms:W3CDTF">2009-08-31T18:12:28Z</dcterms:modified>
  <cp:revision>2</cp:revision>
  <dc:subject/>
  <dc:title>Observing the Solar System</dc:title>
</cp:coreProperties>
</file>